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5E0-BF62-4E19-BE93-89EBA57E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B7B-B448-4D48-A16E-E232CBCA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F92-B5AC-43E3-BE46-6E20F548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648-9465-4F88-8CAD-29DE0D70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5B6-CD02-493F-A40D-5ADAB6E1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18A-F6FB-45EC-B9BF-D8484F91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AED-69BA-4E83-9C52-E72336E2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2E5-0BB6-4ED3-AE6D-E093D260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068-59D7-4EF6-BF91-FF216C36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030-4DCD-4D7D-BD11-BD9CA541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569-014D-4E8A-A42E-0178A3F4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858-95CB-40A9-97CA-2B0EF74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278BD-B1B7-4F6D-9416-63801F9093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1800360"/>
            <a:ext cx="3990960" cy="49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amos Danç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84240" y="1768320"/>
            <a:ext cx="34671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ançar faz bem para o corpo e para a al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20760" y="1768320"/>
            <a:ext cx="2992320" cy="498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dançar você não precisa ser um atl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 apenas se fantasiar de aleg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3280" y="2239920"/>
            <a:ext cx="4425840" cy="404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dança aproxima as pessoas e torna você uma pessoa  mais fel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65160" y="1768320"/>
            <a:ext cx="3503520" cy="49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olte seu corpo e faça da dança um desafio para su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a e d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51600" y="2836800"/>
            <a:ext cx="442584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41:39Z</dcterms:created>
  <dc:creator/>
  <dc:description/>
  <dc:language>en-US</dc:language>
  <cp:lastModifiedBy/>
  <dcterms:modified xsi:type="dcterms:W3CDTF">2010-11-25T23:14:18Z</dcterms:modified>
  <cp:revision>3</cp:revision>
  <dc:subject/>
  <dc:title/>
</cp:coreProperties>
</file>